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929-BF8B-4077-A994-ECFD219C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1B4-C679-47E4-984F-17E7F7E8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E90-E6D2-403E-BC76-90A99F23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3C1-A47D-428A-B1D8-D30AD27D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7C7F-FACC-4B21-BBC7-51A9ABED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EA50-F418-4B55-B460-C5FAF105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F1E5-AC2D-4BF0-9AB6-F0DF7941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D5DC-1C7A-40D5-B7B3-7C0B0235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896F-477D-41E8-A357-ED6A1738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8227-B76A-4025-B150-A7190EC3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574C-B332-4B6A-96CF-09384BA1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322-BCB9-4D9D-8CB3-D85E5DAD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668A-1CA2-43A9-AE58-B3DE3A29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7D97-2528-4E90-A005-9592B7A9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AA25-1985-4916-A85E-54E04BE3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152-27D2-4F1E-BA17-60989843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179A-32F1-4E74-B51B-ECCD69CF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3DB-28F2-4BBA-83BA-535BAAAB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718-FA48-47CF-A52D-44711F07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985-E9E5-4804-A509-C22E9F35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107-AFB8-475E-A737-6D2DB87C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105-4ED1-45A5-8C06-604C3B2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DE8-D346-4082-88DA-56AB8A1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70D-2060-4421-8A0E-7243B95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0DF3-0C8D-4A32-9FA0-54B71DA09D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77CE-45D9-4B0D-8D59-A7B92F46F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ltura Puca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grantes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aleria Ja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aleria Paz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683080" cy="30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69530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ografí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299280" y="5950080"/>
            <a:ext cx="25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Ge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0"/>
            <a:ext cx="2952720" cy="1844640"/>
          </a:xfrm>
          <a:prstGeom prst="wedgeRoundRectCallout">
            <a:avLst>
              <a:gd name="adj1" fmla="val -46074"/>
              <a:gd name="adj2" fmla="val 106712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cara esta ubicado en el departamento de Puno a 61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1km al norte de Juliaca. Al borde de la carretera que conduce al Cuz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6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-181080" y="3114720"/>
            <a:ext cx="4762440" cy="374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614760" y="0"/>
            <a:ext cx="552924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242100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los cosechaban y se alimentaban de: olluco, papa, maíz, oca y mash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40464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89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conómic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407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058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780000" y="3284640"/>
            <a:ext cx="5364000" cy="3573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3284640"/>
            <a:ext cx="428472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227664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mesticaron alpacas para conseguir lanas seleccionadas aunque también domesticaron vicuñas, llamas y guana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olí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ra un gobierno Teocrato, eso significa que su Dios gobernaba a travéz de sus ministros o representa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333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72084"/>
                </a:solidFill>
                <a:latin typeface="Tahoma"/>
              </a:rPr>
              <a:t>Polí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2708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321300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72084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672084"/>
                </a:solidFill>
                <a:latin typeface="Tahoma"/>
              </a:rPr>
              <a:t>Era un gobierno Teocrato, eso significa que su Dios gobernaba a travéz de sus ministros o represen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ltur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6708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Trompeta de cerámica"/>
          <p:cNvPicPr/>
          <p:nvPr/>
        </p:nvPicPr>
        <p:blipFill>
          <a:blip r:embed="rId2"/>
          <a:stretch/>
        </p:blipFill>
        <p:spPr>
          <a:xfrm>
            <a:off x="0" y="2997360"/>
            <a:ext cx="3780000" cy="1915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Cuenco con felino"/>
          <p:cNvPicPr/>
          <p:nvPr/>
        </p:nvPicPr>
        <p:blipFill>
          <a:blip r:embed="rId3"/>
          <a:stretch/>
        </p:blipFill>
        <p:spPr>
          <a:xfrm>
            <a:off x="3708360" y="2997360"/>
            <a:ext cx="2160720" cy="191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Cuenco con personaje con cetros en cada mano"/>
          <p:cNvPicPr/>
          <p:nvPr/>
        </p:nvPicPr>
        <p:blipFill>
          <a:blip r:embed="rId4"/>
          <a:stretch/>
        </p:blipFill>
        <p:spPr>
          <a:xfrm>
            <a:off x="2916360" y="4848120"/>
            <a:ext cx="2232000" cy="200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867280" y="2997360"/>
            <a:ext cx="3276720" cy="25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954840" y="0"/>
            <a:ext cx="2189160" cy="299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429080"/>
            <a:ext cx="305928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6629400" y="5445000"/>
            <a:ext cx="2514600" cy="141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932360" y="4869000"/>
            <a:ext cx="1728720" cy="198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040360" y="76500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6659640" y="5373720"/>
            <a:ext cx="2484360" cy="148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2411280" y="0"/>
            <a:ext cx="4610160" cy="2997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356000" y="476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557360"/>
            <a:ext cx="51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4932360" y="4780080"/>
            <a:ext cx="1722600" cy="2077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299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278136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u cerámica incluye formas como cuencos altos con bases anurales. Sus diseños son principalmente felinos, camélidos y personajes con cetros en las dos manos. Una cerámica muy conocida es “El torito de Pucará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los también tenían instrumentos musi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us construcciones eran de piedra, un ejemplo es la pirámide Kalassaya, o sus “centros secundarios” que se caracterizan por tener una arquitectura completa y refi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220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003640" cy="3752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076720" y="3352680"/>
            <a:ext cx="4067280" cy="350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4859280" cy="364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40464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 religión era politeísta. EL torito de Pucará era también parte de su religión. Ellos representan la prosperidad y si hay una cruz, esa representa la religiosidad el bienestar económico. Para la buena suerte se colocan en los techo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653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551664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ig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1640" y="2565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3500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132ce"/>
                </a:solidFill>
                <a:latin typeface="Tahoma"/>
              </a:rPr>
              <a:t>Ellos hablaban la lengua Pukina, algunos humanos fueron torturados para aprenderse esta lengua. Esta es una lengua extinta, no mucho gente la usa a comparación de antes. Las culturas Tiahuanaco e Inca la utilizaron tambi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90792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132ce"/>
                </a:solidFill>
                <a:latin typeface="Tahoma"/>
              </a:rPr>
              <a:t>Comunic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0920" y="1557360"/>
            <a:ext cx="46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llos trabajaban con los “camellones” que permitían la agricultura en terrenos innund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80536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encia /Tecnologí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3:25:39Z</dcterms:created>
  <dc:creator>Casa</dc:creator>
  <dc:description/>
  <dc:language>en-US</dc:language>
  <cp:lastModifiedBy>Casa</cp:lastModifiedBy>
  <dcterms:modified xsi:type="dcterms:W3CDTF">2009-11-07T03:26:39Z</dcterms:modified>
  <cp:revision>3</cp:revision>
  <dc:subject/>
  <dc:title>Cultura Pucara </dc:title>
</cp:coreProperties>
</file>